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wmf" ContentType="image/x-wmf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D1A67-08D6-4CFB-BC62-E6811A66845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5B465-4F4D-494E-9722-237BC6888D4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59FAC-649F-4E7C-AB81-B8A84F457B9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88B0D-4A57-4A2C-AE16-F19985B9119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F1488-6AC1-4044-8538-B563E60F123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AE778-9881-4B3F-A01E-7EA529B0AF0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BE4B8-765C-4102-BB74-5062011F29E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EC98D-50FE-4B10-AB94-52689826738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FD14D-808A-41D3-BF2A-D95F668148B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A9701-1007-4CAB-877F-7AF8E359D03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689B4-06DB-4FD3-8DE5-2F8748BF36F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6ECFE-58D4-4AD1-97D2-09C7382D46C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CAA26-FE80-4112-BF10-0A52883C789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841A3-0570-4E03-9D9B-78A0E492960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5FBC6-3E63-45EA-B513-D1B455AC38A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BD07F-C095-45DC-9C86-2D767A65403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529DB-5914-4AF4-9075-806FA38F514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61452-A4B0-4405-9E11-856AE7E0F69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16601-EA82-4E23-854E-96FCD7A85E0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3E82B-0931-4EBF-80E1-3B1FCD3DC52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41263-219E-4BC2-BCD9-2E16F6580BC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B6A0A-1B55-4D1F-B9C2-AB7B2EBEA9F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D6F6B-8D93-4F30-938C-76ECF2777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E037D-C035-4572-91BA-04726658D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B7A83-2DDB-45B4-BEDD-612D8AC66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06889-26B6-448E-97EE-7631F5F2B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55B13-7F89-44A1-954A-D91D1BC43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5FA02-0538-478C-BBB7-977E32321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483C6-8EA8-4C0A-8605-3736143A2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E6B4D-1677-4E8E-908E-E8C283C15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DB5A7-48B9-46B5-B141-5866BF692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5DD06-A122-4282-A951-BB8A8EE9D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12FFF-009B-468F-AE1E-003B3CE4E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5EA4E-350A-4C90-A06B-CBF01A95E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47058-FC60-4EDB-96B1-668BE07D9F3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eidos.ru/journal/2005/1212.htm" TargetMode="External"/><Relationship Id="rId2" Type="http://schemas.openxmlformats.org/officeDocument/2006/relationships/hyperlink" Target="http://festival.1september.ru/articles/574903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291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Формирование нравственных установок учащихся на уроках филологического цикла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4343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fbfbf"/>
                </a:solidFill>
                <a:latin typeface="Arial"/>
              </a:rPr>
              <a:t>Токранов Николай Валерьевич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fbfbf"/>
                </a:solidFill>
                <a:latin typeface="Arial"/>
              </a:rPr>
              <a:t>учитель русского языка и литературы МБОУ «Средняя школа №111» Советского района г.Каза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5100A-D548-45F2-9E70-2C4A0742B3B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Organization Chart 7"/>
          <p:cNvGrpSpPr/>
          <p:nvPr/>
        </p:nvGrpSpPr>
        <p:grpSpPr>
          <a:xfrm>
            <a:off x="0" y="98280"/>
            <a:ext cx="9143640" cy="6606720"/>
            <a:chOff x="0" y="98280"/>
            <a:chExt cx="9143640" cy="6606720"/>
          </a:xfrm>
        </p:grpSpPr>
        <p:cxnSp>
          <p:nvCxnSpPr>
            <p:cNvPr id="79" name="_s2052"/>
            <p:cNvCxnSpPr>
              <a:stCxn id="80" idx="1"/>
              <a:endCxn id="81" idx="2"/>
            </p:cNvCxnSpPr>
            <p:nvPr/>
          </p:nvCxnSpPr>
          <p:spPr>
            <a:xfrm rot="10800000">
              <a:off x="6681240" y="3873600"/>
              <a:ext cx="352080" cy="23598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2" name="_s2053"/>
            <p:cNvCxnSpPr>
              <a:stCxn id="83" idx="1"/>
              <a:endCxn id="81" idx="2"/>
            </p:cNvCxnSpPr>
            <p:nvPr/>
          </p:nvCxnSpPr>
          <p:spPr>
            <a:xfrm rot="10800000">
              <a:off x="6681240" y="3872880"/>
              <a:ext cx="352080" cy="9442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4" name="_s2054"/>
            <p:cNvCxnSpPr>
              <a:stCxn id="85" idx="1"/>
              <a:endCxn id="86" idx="2"/>
            </p:cNvCxnSpPr>
            <p:nvPr/>
          </p:nvCxnSpPr>
          <p:spPr>
            <a:xfrm rot="10800000">
              <a:off x="3867480" y="3873600"/>
              <a:ext cx="352080" cy="23598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7" name="_s2055"/>
            <p:cNvCxnSpPr>
              <a:stCxn id="88" idx="1"/>
              <a:endCxn id="86" idx="2"/>
            </p:cNvCxnSpPr>
            <p:nvPr/>
          </p:nvCxnSpPr>
          <p:spPr>
            <a:xfrm rot="10800000">
              <a:off x="3867480" y="3872880"/>
              <a:ext cx="352080" cy="9442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9" name="_s2056"/>
            <p:cNvCxnSpPr>
              <a:stCxn id="90" idx="1"/>
              <a:endCxn id="91" idx="2"/>
            </p:cNvCxnSpPr>
            <p:nvPr/>
          </p:nvCxnSpPr>
          <p:spPr>
            <a:xfrm rot="10800000">
              <a:off x="1054080" y="3872880"/>
              <a:ext cx="352080" cy="9442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2" name="_s2057"/>
            <p:cNvCxnSpPr>
              <a:stCxn id="81" idx="0"/>
              <a:endCxn id="93" idx="2"/>
            </p:cNvCxnSpPr>
            <p:nvPr/>
          </p:nvCxnSpPr>
          <p:spPr>
            <a:xfrm flipV="1">
              <a:off x="6681960" y="2457360"/>
              <a:ext cx="2880" cy="4723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4" name="_s2058"/>
            <p:cNvCxnSpPr>
              <a:stCxn id="86" idx="0"/>
              <a:endCxn id="95" idx="2"/>
            </p:cNvCxnSpPr>
            <p:nvPr/>
          </p:nvCxnSpPr>
          <p:spPr>
            <a:xfrm flipV="1" rot="16200000">
              <a:off x="2928600" y="1989720"/>
              <a:ext cx="472320" cy="1407240"/>
            </a:xfrm>
            <a:prstGeom prst="bentConnector3">
              <a:avLst>
                <a:gd name="adj1" fmla="val 2616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6" name="_s2059"/>
            <p:cNvCxnSpPr>
              <a:stCxn id="91" idx="0"/>
              <a:endCxn id="95" idx="2"/>
            </p:cNvCxnSpPr>
            <p:nvPr/>
          </p:nvCxnSpPr>
          <p:spPr>
            <a:xfrm flipH="1" flipV="1" rot="5400000">
              <a:off x="1521720" y="1989720"/>
              <a:ext cx="472320" cy="1407240"/>
            </a:xfrm>
            <a:prstGeom prst="bentConnector3">
              <a:avLst>
                <a:gd name="adj1" fmla="val 2616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7" name="_s2060"/>
            <p:cNvCxnSpPr>
              <a:stCxn id="93" idx="0"/>
              <a:endCxn id="98" idx="2"/>
            </p:cNvCxnSpPr>
            <p:nvPr/>
          </p:nvCxnSpPr>
          <p:spPr>
            <a:xfrm flipV="1" rot="16200000">
              <a:off x="5390280" y="222120"/>
              <a:ext cx="472320" cy="2110680"/>
            </a:xfrm>
            <a:prstGeom prst="bentConnector3">
              <a:avLst>
                <a:gd name="adj1" fmla="val 2623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9" name="_s2061"/>
            <p:cNvCxnSpPr>
              <a:stCxn id="95" idx="0"/>
              <a:endCxn id="98" idx="2"/>
            </p:cNvCxnSpPr>
            <p:nvPr/>
          </p:nvCxnSpPr>
          <p:spPr>
            <a:xfrm flipH="1" flipV="1" rot="5400000">
              <a:off x="3280320" y="222120"/>
              <a:ext cx="472320" cy="2110680"/>
            </a:xfrm>
            <a:prstGeom prst="bentConnector3">
              <a:avLst>
                <a:gd name="adj1" fmla="val 26239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98" name="_s2062"/>
            <p:cNvSpPr/>
            <p:nvPr/>
          </p:nvSpPr>
          <p:spPr>
            <a:xfrm>
              <a:off x="3516840" y="98280"/>
              <a:ext cx="2109960" cy="9435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Читательская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грамотност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2063"/>
            <p:cNvSpPr/>
            <p:nvPr/>
          </p:nvSpPr>
          <p:spPr>
            <a:xfrm>
              <a:off x="1406520" y="1513800"/>
              <a:ext cx="2109960" cy="9435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Опора на текс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2064"/>
            <p:cNvSpPr/>
            <p:nvPr/>
          </p:nvSpPr>
          <p:spPr>
            <a:xfrm>
              <a:off x="5626800" y="1513800"/>
              <a:ext cx="2109960" cy="9435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Опора на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внетекстовое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знани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_s2065"/>
            <p:cNvSpPr/>
            <p:nvPr/>
          </p:nvSpPr>
          <p:spPr>
            <a:xfrm>
              <a:off x="0" y="2929680"/>
              <a:ext cx="2109960" cy="9435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найти и извлеч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(информацию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_s2066"/>
            <p:cNvSpPr/>
            <p:nvPr/>
          </p:nvSpPr>
          <p:spPr>
            <a:xfrm>
              <a:off x="2813400" y="2929680"/>
              <a:ext cx="2109960" cy="9435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интегрировать и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интерпретироват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(информацию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_s2067"/>
            <p:cNvSpPr/>
            <p:nvPr/>
          </p:nvSpPr>
          <p:spPr>
            <a:xfrm>
              <a:off x="5626800" y="2929680"/>
              <a:ext cx="2109960" cy="9435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осмыслить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и оценит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(сообщение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_s2068"/>
            <p:cNvSpPr/>
            <p:nvPr/>
          </p:nvSpPr>
          <p:spPr>
            <a:xfrm>
              <a:off x="1406520" y="4345560"/>
              <a:ext cx="2109960" cy="9435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извлеч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(информацию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_s2069"/>
            <p:cNvSpPr/>
            <p:nvPr/>
          </p:nvSpPr>
          <p:spPr>
            <a:xfrm>
              <a:off x="4219920" y="4345560"/>
              <a:ext cx="2109960" cy="9399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сформировать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общее понимание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текст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_s2070"/>
            <p:cNvSpPr/>
            <p:nvPr/>
          </p:nvSpPr>
          <p:spPr>
            <a:xfrm>
              <a:off x="4219920" y="5761440"/>
              <a:ext cx="2109960" cy="9399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толковать текс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_s2071"/>
            <p:cNvSpPr/>
            <p:nvPr/>
          </p:nvSpPr>
          <p:spPr>
            <a:xfrm>
              <a:off x="7033680" y="4345560"/>
              <a:ext cx="2109960" cy="9435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осмыслить и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оценить содержа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ние текст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_s2072"/>
            <p:cNvSpPr/>
            <p:nvPr/>
          </p:nvSpPr>
          <p:spPr>
            <a:xfrm>
              <a:off x="7033680" y="5761440"/>
              <a:ext cx="2109960" cy="9435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осмыслить и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оценить форм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текста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зучение способов самостоятельного анализа тек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2120" y="16761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2f2f2"/>
                </a:solidFill>
                <a:latin typeface="Arial"/>
              </a:rPr>
              <a:t>Вопросы анкет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2f2f2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2f2f2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f2f2f2"/>
                </a:solidFill>
                <a:latin typeface="Arial"/>
              </a:rPr>
              <a:t>1. Составляю план                                                           1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2f2f2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f2f2f2"/>
                </a:solidFill>
                <a:latin typeface="Arial"/>
              </a:rPr>
              <a:t>2. Выписываю сложные места                                        4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2f2f2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f2f2f2"/>
                </a:solidFill>
                <a:latin typeface="Arial"/>
              </a:rPr>
              <a:t>3. Запоминаю весь текст или его части                          3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2f2f2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f2f2f2"/>
                </a:solidFill>
                <a:latin typeface="Arial"/>
              </a:rPr>
              <a:t>4. Разбираю сложные места при помощи                      1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2f2f2"/>
                </a:solidFill>
                <a:latin typeface="Arial"/>
              </a:rPr>
              <a:t>       </a:t>
            </a:r>
            <a:r>
              <a:rPr b="0" lang="ru-RU" sz="2000" spc="-1" strike="noStrike">
                <a:solidFill>
                  <a:srgbClr val="f2f2f2"/>
                </a:solidFill>
                <a:latin typeface="Arial"/>
              </a:rPr>
              <a:t>взрослых или дополнительной литерату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2f2f2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f2f2f2"/>
                </a:solidFill>
                <a:latin typeface="Arial"/>
              </a:rPr>
              <a:t>5. Читаю текст несколько раз                                          7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2f2f2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f2f2f2"/>
                </a:solidFill>
                <a:latin typeface="Arial"/>
              </a:rPr>
              <a:t>6. Составляю таблицу или схему                                    1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2f2f2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f2f2f2"/>
                </a:solidFill>
                <a:latin typeface="Arial"/>
              </a:rPr>
              <a:t>7. Легко подбираю примеры к                                          1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2f2f2"/>
                </a:solidFill>
                <a:latin typeface="Arial"/>
              </a:rPr>
              <a:t>       </a:t>
            </a:r>
            <a:r>
              <a:rPr b="0" lang="ru-RU" sz="2000" spc="-1" strike="noStrike">
                <a:solidFill>
                  <a:srgbClr val="f2f2f2"/>
                </a:solidFill>
                <a:latin typeface="Arial"/>
              </a:rPr>
              <a:t>предложенному текст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2f2f2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f2f2f2"/>
                </a:solidFill>
                <a:latin typeface="Arial"/>
              </a:rPr>
              <a:t>8. Легко пересказываю текст учебника                           4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2f2f2"/>
                </a:solidFill>
                <a:latin typeface="Arial"/>
              </a:rPr>
              <a:t>       </a:t>
            </a:r>
            <a:r>
              <a:rPr b="0" lang="ru-RU" sz="2000" spc="-1" strike="noStrike">
                <a:solidFill>
                  <a:srgbClr val="f2f2f2"/>
                </a:solidFill>
                <a:latin typeface="Arial"/>
              </a:rPr>
              <a:t>своими слов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2f2f2"/>
                </a:solidFill>
                <a:latin typeface="Arial"/>
              </a:rPr>
              <a:t>Репрезентативная выборка составила 50 человек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2f2f2"/>
                </a:solidFill>
                <a:latin typeface="Arial"/>
              </a:rPr>
              <a:t>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3D84C-7F8E-492D-A6F0-482629398667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Диагностическая карта уровней восприятия текста Ф.Абрамова «О чем плачут лошади»</a:t>
            </a:r>
            <a:br>
              <a:rPr sz="2500"/>
            </a:b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 учащихся 7-го класса (по Н.Д.Молдавской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380880" y="1905120"/>
          <a:ext cx="8305920" cy="4227480"/>
        </p:xfrm>
        <a:graphic>
          <a:graphicData uri="http://schemas.openxmlformats.org/drawingml/2006/table">
            <a:tbl>
              <a:tblPr/>
              <a:tblGrid>
                <a:gridCol w="1703520"/>
                <a:gridCol w="2011320"/>
                <a:gridCol w="2293920"/>
                <a:gridCol w="2297160"/>
              </a:tblGrid>
              <a:tr h="3354120"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Фотографи-ческое  восприят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уровен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бразное обобщение на сюжетно-событийной основ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 уровен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бразное обобщение на основе осмысления композиционных связей без понимания образа автор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 уровен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бразное обобщение на композиционной основе с ограниченным пониманием образа автор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73360"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редн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редн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изк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изк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05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87322-F813-4C2C-8FA9-B08BF46B50BC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98600" y="24444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Arial"/>
              </a:rPr>
              <a:t>Диагностика уровня усвоения учащимися 7-го класса содержания нравственных понятий в ходе анализа текста  Ф.Абрамова «О чем плачут лошади» (по Павловой И.И.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533520" y="1600200"/>
          <a:ext cx="8153280" cy="4595760"/>
        </p:xfrm>
        <a:graphic>
          <a:graphicData uri="http://schemas.openxmlformats.org/drawingml/2006/table">
            <a:tbl>
              <a:tblPr/>
              <a:tblGrid>
                <a:gridCol w="2271600"/>
                <a:gridCol w="1604880"/>
                <a:gridCol w="1470240"/>
                <a:gridCol w="1434960"/>
                <a:gridCol w="1371600"/>
              </a:tblGrid>
              <a:tr h="731880"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пределяемое понят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лно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нимани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 балл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авильное понимани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 балл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еглубоко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нимани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 балл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епонима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бал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3880"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атриотиз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5440"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нтернационализм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5200"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ллективиз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4920"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Трудолюб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0240"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бежденно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3400"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ужество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3480"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Героиз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9600"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дви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9880"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тветственно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5200"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Гуманиз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8880"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циональное достоинств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3760"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Честно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08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1BCB3-5C6A-40FC-A0FB-14F16DF58BE9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етодический инструментар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  </a:t>
            </a: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Виды работ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ловарная рабо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абота с текст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азвитие речи (устной и письменной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I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Формы работы</a:t>
            </a:r>
            <a:r>
              <a:rPr b="0" i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еседа (репродуктивная и эвристическа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испу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оек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сследован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бщение в виртуальном пространств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E936D-DC5F-4663-98DD-19EC228E9339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етодический инструментар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II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Технологии</a:t>
            </a:r>
            <a:r>
              <a:rPr b="0" i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ехнология развития критического мышления через чтение (способность ставить новые вопросы, вырабатывать разнообразные аргументы, принимать независимые продуманные решения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ехнология поэтапного формирования умений учить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ехнология формирования «вдумчивого читателя» (инсерт, рафт, «толстые» и «тонкие» вопросы, чтение с пометами, кластер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СО, ГС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етоды проблемного обуч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ейс-стади </a:t>
            </a:r>
            <a:r>
              <a:rPr b="0" lang="ru-RU" sz="2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E0C01-D1DC-4643-9D4B-F38441B90453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ластер «Образная система в повести А.И.Куприна «Олеся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Oval 6"/>
          <p:cNvSpPr/>
          <p:nvPr/>
        </p:nvSpPr>
        <p:spPr>
          <a:xfrm>
            <a:off x="1676520" y="1828800"/>
            <a:ext cx="144756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нтеллигент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Oval 7"/>
          <p:cNvSpPr/>
          <p:nvPr/>
        </p:nvSpPr>
        <p:spPr>
          <a:xfrm>
            <a:off x="533520" y="2590920"/>
            <a:ext cx="144756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ерешитель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Oval 8"/>
          <p:cNvSpPr/>
          <p:nvPr/>
        </p:nvSpPr>
        <p:spPr>
          <a:xfrm>
            <a:off x="762120" y="3886200"/>
            <a:ext cx="16002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еспособность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 самопожертвовани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Oval 9"/>
          <p:cNvSpPr/>
          <p:nvPr/>
        </p:nvSpPr>
        <p:spPr>
          <a:xfrm>
            <a:off x="5715000" y="1752480"/>
            <a:ext cx="16002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пособность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 самоотверженно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любв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Oval 10"/>
          <p:cNvSpPr/>
          <p:nvPr/>
        </p:nvSpPr>
        <p:spPr>
          <a:xfrm>
            <a:off x="7010280" y="2590920"/>
            <a:ext cx="129564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ешитель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Oval 11"/>
          <p:cNvSpPr/>
          <p:nvPr/>
        </p:nvSpPr>
        <p:spPr>
          <a:xfrm>
            <a:off x="7162920" y="4038480"/>
            <a:ext cx="13716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остота 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естествен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2"/>
          <p:cNvSpPr/>
          <p:nvPr/>
        </p:nvSpPr>
        <p:spPr>
          <a:xfrm>
            <a:off x="2286000" y="4952880"/>
            <a:ext cx="175248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Человек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цивилиза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3"/>
          <p:cNvSpPr/>
          <p:nvPr/>
        </p:nvSpPr>
        <p:spPr>
          <a:xfrm>
            <a:off x="5029200" y="4876920"/>
            <a:ext cx="18288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Человек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з мира природ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4"/>
          <p:cNvSpPr/>
          <p:nvPr/>
        </p:nvSpPr>
        <p:spPr>
          <a:xfrm>
            <a:off x="2590920" y="3200400"/>
            <a:ext cx="152388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ва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имофеев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5"/>
          <p:cNvSpPr/>
          <p:nvPr/>
        </p:nvSpPr>
        <p:spPr>
          <a:xfrm>
            <a:off x="4876920" y="3276720"/>
            <a:ext cx="13716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ле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21"/>
          <p:cNvSpPr/>
          <p:nvPr/>
        </p:nvSpPr>
        <p:spPr>
          <a:xfrm>
            <a:off x="3581280" y="6095880"/>
            <a:ext cx="1828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нтите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22"/>
          <p:cNvSpPr/>
          <p:nvPr/>
        </p:nvSpPr>
        <p:spPr>
          <a:xfrm flipH="1" flipV="1">
            <a:off x="2590920" y="2743200"/>
            <a:ext cx="30456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23"/>
          <p:cNvSpPr/>
          <p:nvPr/>
        </p:nvSpPr>
        <p:spPr>
          <a:xfrm flipH="1" flipV="1">
            <a:off x="1828440" y="335232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24"/>
          <p:cNvSpPr/>
          <p:nvPr/>
        </p:nvSpPr>
        <p:spPr>
          <a:xfrm flipH="1">
            <a:off x="2209320" y="3962520"/>
            <a:ext cx="3812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25"/>
          <p:cNvSpPr/>
          <p:nvPr/>
        </p:nvSpPr>
        <p:spPr>
          <a:xfrm>
            <a:off x="2971800" y="41148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26"/>
          <p:cNvSpPr/>
          <p:nvPr/>
        </p:nvSpPr>
        <p:spPr>
          <a:xfrm flipV="1">
            <a:off x="5791320" y="25905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27"/>
          <p:cNvSpPr/>
          <p:nvPr/>
        </p:nvSpPr>
        <p:spPr>
          <a:xfrm flipV="1">
            <a:off x="6172200" y="3352320"/>
            <a:ext cx="99072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28"/>
          <p:cNvSpPr/>
          <p:nvPr/>
        </p:nvSpPr>
        <p:spPr>
          <a:xfrm>
            <a:off x="6248520" y="4114800"/>
            <a:ext cx="99036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30"/>
          <p:cNvSpPr/>
          <p:nvPr/>
        </p:nvSpPr>
        <p:spPr>
          <a:xfrm>
            <a:off x="6019920" y="4191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33"/>
          <p:cNvSpPr/>
          <p:nvPr/>
        </p:nvSpPr>
        <p:spPr>
          <a:xfrm>
            <a:off x="3048120" y="5867280"/>
            <a:ext cx="53316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34"/>
          <p:cNvSpPr/>
          <p:nvPr/>
        </p:nvSpPr>
        <p:spPr>
          <a:xfrm flipV="1">
            <a:off x="5410080" y="579096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лгоритм формирования навыка «вдумчивого» чт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акова главная мысль абзац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пределите ключевые слова и словосочетания в данном отрывк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ак связана главная мысль данного абзаца с содержанием предыдущего абзац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 чем предположительно пойдет речь в следующем абзаце?</a:t>
            </a:r>
            <a:r>
              <a:rPr b="0" lang="ru-RU" sz="2800" spc="-1" strike="noStrike">
                <a:solidFill>
                  <a:srgbClr val="bbe0e3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C3EC2-C45D-4595-AB56-43D3FA8A8FBB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Object 2" descr=""/>
          <p:cNvPicPr/>
          <p:nvPr/>
        </p:nvPicPr>
        <p:blipFill>
          <a:blip r:embed="rId1"/>
          <a:stretch/>
        </p:blipFill>
        <p:spPr>
          <a:xfrm>
            <a:off x="228600" y="1905120"/>
            <a:ext cx="6988320" cy="477504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омежуточная диагност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2" name="Object 6"/>
          <p:cNvGraphicFramePr/>
          <p:nvPr/>
        </p:nvGraphicFramePr>
        <p:xfrm>
          <a:off x="4495680" y="914400"/>
          <a:ext cx="4586400" cy="32655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43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495680" y="914400"/>
                    <a:ext cx="4586400" cy="326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AF61B-FA73-45C5-91FC-9DE6CA6964D0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5"/>
          <p:cNvSpPr/>
          <p:nvPr/>
        </p:nvSpPr>
        <p:spPr>
          <a:xfrm>
            <a:off x="228600" y="23623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92808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Рисунок 4" descr=""/>
          <p:cNvPicPr/>
          <p:nvPr/>
        </p:nvPicPr>
        <p:blipFill>
          <a:blip r:embed="rId1"/>
          <a:srcRect l="30436" t="0" r="22135" b="0"/>
          <a:stretch/>
        </p:blipFill>
        <p:spPr>
          <a:xfrm>
            <a:off x="609480" y="0"/>
            <a:ext cx="8229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ктуальность те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Федеральный государственный стандарт основного общего образования по русскому языку и литературе определяет главными целями изучения предметов формирование духовно развитой личности, обладающей гуманистическим мировоззрением, чувством патриотизма.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2f2f2"/>
                </a:solidFill>
                <a:latin typeface="Arial"/>
              </a:rPr>
              <a:t>Методологической основой разработки и реализации федерального государственного образовательного стандарта общего образования является концепция духовно-нравственного развития и воспитания личности гражданина Росс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A1A28-CF8B-4D11-A901-C8BE320879B7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Литературно-музыкальная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студия 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«17 кабинет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86728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усские народные песн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усский роман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ворчество бардов -шестидесятник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ходные песн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овременные рок-исполнители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c00000"/>
                </a:solidFill>
                <a:latin typeface="Arial"/>
              </a:rPr>
              <a:t>Жизнь, судьба, эпоха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6" descr="После уроков2"/>
          <p:cNvPicPr/>
          <p:nvPr/>
        </p:nvPicPr>
        <p:blipFill>
          <a:blip r:embed="rId1"/>
          <a:stretch/>
        </p:blipFill>
        <p:spPr>
          <a:xfrm>
            <a:off x="6362640" y="1219320"/>
            <a:ext cx="2667240" cy="200016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7" descr="После уроков3"/>
          <p:cNvPicPr/>
          <p:nvPr/>
        </p:nvPicPr>
        <p:blipFill>
          <a:blip r:embed="rId2"/>
          <a:stretch/>
        </p:blipFill>
        <p:spPr>
          <a:xfrm>
            <a:off x="5105520" y="2971800"/>
            <a:ext cx="2590560" cy="19414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8" descr="шкид3"/>
          <p:cNvPicPr/>
          <p:nvPr/>
        </p:nvPicPr>
        <p:blipFill>
          <a:blip r:embed="rId3"/>
          <a:stretch/>
        </p:blipFill>
        <p:spPr>
          <a:xfrm>
            <a:off x="6248520" y="4648320"/>
            <a:ext cx="2590560" cy="194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Промежуточная диагности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«Патриотизм для меня - понятие двойственное. С одной стороны, в нём много общественного, с другой, что-то личное, свое…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«Быть патриотом не значит везде и всюду хвалить свою страну…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«Достоинство – понятие обширное. Нужно быть достойным своей семьи и своей страны…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«Толерантность – это не просто эффектное слово. Это работа на каждый день…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Литератур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Федеральный государственный образовательный стандарт основного общего образования /Министерство образования и науки РФ.- М.: Просвещение, 20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Фундаментальное ядро содержания общего образования /Под ред. В.В.Козлова, А .М. Кондакова .- М.: Просвещение, 2009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Хуторской А.В. Технология проектирования ключевых и предметных компетенций [Электронный ресурс] // Режим доступа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eidos.ru/journal/2005/1212.htm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Гурьянова А.В. Компетентностный подход в образовании [Электронный ресурс] // Режим доступа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festival.1september.ru/articles/574903/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Селевко Г.К. Современные образовательные технологии. Учебное пособие. М.: Народное образование, 1998, 256 с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К.Мередит, Ч.Темпл, Д.Стил, «Воспитание  вдумчивых  читателей», 199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И.О.Загашева «Заметки на полях. Пример занятия, направленного на развитие критического мышления учащихся на основе стратегии «Условные значки» ( «Библиотека в школе», 2004, №18, с. 10-13).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Скаткин М.Н. Проблемы современной дидактики. М. Педагогика 1980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ахмутов М.И. Организация проблемного обучения М. Педагогика 1977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9A2A2-EC17-4382-A40A-F6D977929145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нализ научно-методической литерату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380880" y="12193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научно-методической литературе (А.В. Хуторской, В.В.Краевский, А.В.Гурьянова, И.А.Зимняя),  несмотря на наличие нескольких  подходов, приоритетными определяютс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Ценностно-смысловые компетен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бщекультур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Учебно-познаватель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нформацион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оммуникатив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оциально-трудов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омпетенции личностного самосовершенств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09427-9CF3-4A41-AEB5-A265F80FE23C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Цель и задачи педагогической деятель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just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Формирование ценностно-смысловых, нравственных установок школьников в образовательном пространстве в  предметной области «Русский язык и литература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адач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spcBef>
                <a:spcPts val="4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нализ программно-методического сопровождения предметной област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spcBef>
                <a:spcPts val="4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труктуризация ценностных установок в соответствии с возрастными особенностями учащего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spcBef>
                <a:spcPts val="4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оставление тезауруса нравственных понятий  для введения в учебное  поле учащихс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spcBef>
                <a:spcPts val="4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ыявление эффективных педагогических техник работы с учебным текстом с целью актуализации в деятель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spcBef>
                <a:spcPts val="4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ониторинг сформированности нравственных установок  учащих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7E950-F0BF-4D4A-8199-CB208BD34EDE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Предметные задач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двести к усвоению и осознанию основных нравственных понят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ивести к пониманию нравственных проблем, поднятых в русской и зарубежной литератур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азвить навыки критического мышле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азвить навыки принятия коллективных и самостоятельных реше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4C1ED-7953-4A8B-A85F-738D36FF0649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водная диагност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беседы с учащимися в урочное и внеурочное врем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аблюден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прос родителе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нкетирован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ониторинг литературных предпочтений учащих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нализ творческих работ учащих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канирование аккаунтов в социальных сетя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bbe0e3"/>
                </a:solidFill>
                <a:latin typeface="Arial"/>
              </a:rPr>
              <a:t>                                    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24028"/>
          <p:cNvPicPr/>
          <p:nvPr/>
        </p:nvPicPr>
        <p:blipFill>
          <a:blip r:embed="rId1"/>
          <a:stretch/>
        </p:blipFill>
        <p:spPr>
          <a:xfrm>
            <a:off x="6108840" y="4286160"/>
            <a:ext cx="2340000" cy="3510000"/>
          </a:xfrm>
          <a:prstGeom prst="rect">
            <a:avLst/>
          </a:prstGeom>
          <a:ln w="0">
            <a:noFill/>
          </a:ln>
        </p:spPr>
      </p:pic>
      <p:sp>
        <p:nvSpPr>
          <p:cNvPr id="65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CC688-1D48-4B49-B30B-9BC45BBAEEF7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Образец диагности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be0e3"/>
                </a:solidFill>
                <a:latin typeface="Arial"/>
              </a:rPr>
              <a:t>                    </a:t>
            </a:r>
            <a:r>
              <a:rPr b="1" lang="ru-RU" sz="3200" spc="-1" strike="noStrike">
                <a:solidFill>
                  <a:srgbClr val="bbe0e3"/>
                </a:solidFill>
                <a:latin typeface="Arial"/>
              </a:rPr>
              <a:t>Анкетирование</a:t>
            </a:r>
            <a:r>
              <a:rPr b="0" lang="ru-RU" sz="32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bbe0e3"/>
                </a:solidFill>
                <a:latin typeface="Arial"/>
              </a:rPr>
              <a:t>Какую бы тему ты выбрал для работы над домашним сочинением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ема чести в повести А.С. Пушкина «Капитанская дочка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сторическая эпоха в повести А.С. Пушкина «Капитанская дочка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ема свободы в поэме М.Ю.Лермонтова «Мцыр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ывод: дети выбирают конкретную тему, не подразумевающую проявления собственной позиции  и критичности мышл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037FB-53E2-4E1B-B68B-96126426AC15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Object 4"/>
          <p:cNvGraphicFramePr/>
          <p:nvPr/>
        </p:nvGraphicFramePr>
        <p:xfrm>
          <a:off x="0" y="1065240"/>
          <a:ext cx="8326440" cy="5389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065240"/>
                    <a:ext cx="8326440" cy="538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Результаты анкетиров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7E886-034B-42BF-8C45-48DDEFD9DBF9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4"/>
          <p:cNvSpPr/>
          <p:nvPr/>
        </p:nvSpPr>
        <p:spPr>
          <a:xfrm>
            <a:off x="609480" y="9907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Развитие эмоциональной сфе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3808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личностный смысл изучаемого содерж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ложительный эмоциональный фон учебных занят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удивл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опережи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«вчувствование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50CB6-2718-4371-B599-E4A04F8AB6AD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3T17:40:06Z</dcterms:created>
  <dc:creator>Николай</dc:creator>
  <dc:description/>
  <dc:language>en-US</dc:language>
  <cp:lastModifiedBy>user</cp:lastModifiedBy>
  <dcterms:modified xsi:type="dcterms:W3CDTF">2012-09-25T04:36:20Z</dcterms:modified>
  <cp:revision>15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